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BE62D-FFEF-43BD-9192-91634F223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A509-5C86-480D-BF85-C90919B0C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EEA60-8045-40ED-859A-6BD59DD26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D463-E71F-4A24-9CE6-82D2B3D2C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8DEC6-B34E-49C3-8516-47FF7755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E8DA-3663-44DD-B59E-E3562F588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1D7D-BC0F-4D54-894C-79244581C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B1F0-A50E-40F1-92C0-F2B3D612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357E-B7DE-4E0C-A591-A755C98A4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7443-1012-46B6-856F-D90A8F9F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52FD-E317-4183-A351-3B6F730F3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EEA-0907-4BF8-B14B-8682ADE34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3DA32-3925-4885-9F9D-669C13B51C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1d7d2b"/>
                </a:solidFill>
                <a:latin typeface="Arial"/>
              </a:rPr>
              <a:t>ЖИРЫ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8610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как  меньшее  1  двойную  связ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дкий  при  комнатной  t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ет  стенки  клеток  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 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быточное  употребление  ведёт  к  рак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91120" indent="-59112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избытке  причиняет  слипание  эритроци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685800" y="29718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оненасыщенный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title"/>
          </p:nvPr>
        </p:nvSpPr>
        <p:spPr>
          <a:xfrm>
            <a:off x="380520" y="609120"/>
            <a:ext cx="8610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Виды  ненасыщенных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19810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133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990720" y="5181480"/>
            <a:ext cx="804600" cy="838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3276720" y="5105520"/>
            <a:ext cx="804600" cy="8380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5"/>
          <a:stretch/>
        </p:blipFill>
        <p:spPr>
          <a:xfrm>
            <a:off x="43434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6"/>
          <a:stretch/>
        </p:blipFill>
        <p:spPr>
          <a:xfrm>
            <a:off x="541008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7"/>
          <a:stretch/>
        </p:blipFill>
        <p:spPr>
          <a:xfrm>
            <a:off x="6400800" y="5105520"/>
            <a:ext cx="804960" cy="8380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8"/>
          <a:stretch/>
        </p:blipFill>
        <p:spPr>
          <a:xfrm>
            <a:off x="7391520" y="5105520"/>
            <a:ext cx="8046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ноненасыщенный  жир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26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еет  одну  двойную  связ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«плохой»  холестерин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Н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ае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хороший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лестерин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ЛВП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ее  склонен  к  окислению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44956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оливковое  масло, рапсовое  масло, миндаль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линенасыщенный  жир</a:t>
            </a:r>
            <a:r>
              <a:rPr b="1" lang="en-US" sz="54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ее  одной  двойной  связ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  ЛНП и ЛВ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ижает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зование  тромбов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лонен  к  окислени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3520" y="4572000"/>
            <a:ext cx="8381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чники: соевое  масло, кукурузное  масло, подсолнечное  масло, грецкие  орехи и др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4560" y="13716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генизация полиненасыщенных жиров производится путём добавления водорода к неустойчивым двойным связям. Благодаря этому эти жиры становятся менее подверженными окислению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Гидрогенизация</a:t>
            </a:r>
            <a:r>
              <a:rPr b="1" lang="en-US" sz="6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04560" y="2057400"/>
            <a:ext cx="8839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ряют свойства полиненасыщенных жиров, становясь более густым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ышают риск ССЗ и подозреваются в причастности к заболеванию раком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80880" y="1295280"/>
            <a:ext cx="807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нако гидрогенизированные жиры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т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ъязычная  слюнная  железа  выделяет  фермент липазу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  взрослых  она  играет  небольшую  роль  в  пищеварении  жиров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5638680" y="3749760"/>
            <a:ext cx="4038840" cy="26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r>
              <a:rPr b="1" lang="en-US" sz="4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елудок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Ж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лудочная  липаза  расщепляет  небольшое  кол-во  жира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 покидают  желудок  очень  медленн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10 гр.  или  2 ч.л. в  час)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6253200" y="4419720"/>
            <a:ext cx="273852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5943600" y="2144880"/>
            <a:ext cx="3809880" cy="387504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8305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ИЩЕВАРЕНИЕ  ЖИРОВ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4920" y="990720"/>
            <a:ext cx="624816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нкий  кишечник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джелудочная и кишечная липаза завершают расщепление жиров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есь происходит всасывание моноглицеридов, глицерина и жирных кислот.60% жира всасывается в лимфатическую систему, замедляя его поступление в кровь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</a:rPr>
              <a:t>РЕКОМЕНДУЕМЫЕ НОРМ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чше всего употреблять жиры в их природном состоянии, т.е. в орехах, семечках, семенах и плодах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0-60 грамм орехов, семечек или 3-4 ст. л. растительного масла, плюс жиры, изначально находящихся в продуктах дают рекомендуемые 20-25% калорий из жиров.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ы необходимы для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ы стенок клето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учения энерги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воения жирорастворимых витамин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оляции и защит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ижения чувства насыщен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лучшения вкуса пищ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вки незаменимых жирных кисло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9" name=""/>
          <p:cNvGraphicFramePr/>
          <p:nvPr/>
        </p:nvGraphicFramePr>
        <p:xfrm>
          <a:off x="228600" y="233280"/>
          <a:ext cx="8686800" cy="662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33280"/>
                    <a:ext cx="8686800" cy="662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1" name=""/>
          <p:cNvGraphicFramePr/>
          <p:nvPr/>
        </p:nvGraphicFramePr>
        <p:xfrm>
          <a:off x="666720" y="228600"/>
          <a:ext cx="7810560" cy="6400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66720" y="228600"/>
                    <a:ext cx="781056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620640" y="457200"/>
          <a:ext cx="7904160" cy="617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0640" y="457200"/>
                    <a:ext cx="7904160" cy="617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80880" y="533520"/>
          <a:ext cx="8458200" cy="601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533520"/>
                    <a:ext cx="8458200" cy="601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617400" y="128520"/>
          <a:ext cx="7909200" cy="665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7400" y="128520"/>
                    <a:ext cx="7909200" cy="66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623880" y="685800"/>
          <a:ext cx="7896240" cy="56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3880" y="685800"/>
                    <a:ext cx="7896240" cy="56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380880" y="3048120"/>
            <a:ext cx="3276720" cy="333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Толстый кише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ямая киш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Простат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олочная желез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Матка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Яичник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imes New Roman"/>
              </a:rPr>
              <a:t>Лёгкие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04920" y="324000"/>
          <a:ext cx="8610480" cy="767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324000"/>
                    <a:ext cx="8610480" cy="767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85800" y="121932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ы  включают  в  себя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21337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 (жиры и масла)</a:t>
            </a:r>
            <a:r>
              <a:rPr b="1" lang="ru-RU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29718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фосфолипиды</a:t>
            </a:r>
            <a:r>
              <a:rPr b="1" lang="ru-RU" sz="36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396252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терин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риглицериды</a:t>
            </a:r>
            <a:r>
              <a:rPr b="1" lang="en-US" sz="60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80880" y="1981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реобладают  как  в  пище так  и  в  тел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2971800"/>
            <a:ext cx="815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  могут  быть  растворены  в  вод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388620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могут  быть  растворены  в  других  жирах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4724280"/>
            <a:ext cx="777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тоят  из  трёх  жирных  кислот, присоединённых  к молекуле глицерина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762120" y="1523880"/>
            <a:ext cx="1295280" cy="38862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48120" y="152388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048120" y="297180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8120" y="4419720"/>
            <a:ext cx="2819160" cy="9144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62120" y="15238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лицерин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124080" y="17524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20040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464832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Жирная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кисло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057400" y="198108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057400" y="34290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057400" y="487692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248520" y="3657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бывают  насыщенными  и  ненасыщенными</a:t>
            </a:r>
            <a:r>
              <a:rPr b="0" lang="en-US" sz="2400" spc="-1" strike="noStrike">
                <a:solidFill>
                  <a:srgbClr val="1d7d2b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324480" y="2514600"/>
            <a:ext cx="243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Жирные  кисло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38080" y="304920"/>
            <a:ext cx="754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371600"/>
            <a:ext cx="8153640" cy="77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H   H   H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- C - C - C -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I     I     I    I     I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H   H    H   H   H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143000" y="121932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В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нём  преобладают  насыщенные  ж.к-ты</a:t>
            </a:r>
            <a:r>
              <a:rPr b="1" lang="en-US" sz="2800" spc="-1" strike="noStrike">
                <a:solidFill>
                  <a:srgbClr val="1d7d2b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r>
              <a:rPr b="0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  водородом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твёрдый  при  комнатной  t</a:t>
            </a:r>
            <a:r>
              <a:rPr b="1" lang="en-US" sz="3200" spc="-1" strike="noStrike" baseline="30000">
                <a:solidFill>
                  <a:srgbClr val="1d7d2b"/>
                </a:solidFill>
                <a:latin typeface="Times New Roman"/>
                <a:ea typeface="Times New Roman"/>
              </a:rPr>
              <a:t>0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делает  стенки  клеток  негибким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повышает  холестерин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пособствует  образованию  тромб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1d7d2b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с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окращает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коронарные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сосуды  сердц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АСЫЩЕННЫЙ   ЖИР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  насыщенных  жиров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 животные  жиры, за  исключением  рыбьего  жира, - сливочное масло, свиной жир и т. д. Кокосовое  и  пальмовое  масло - исключения  в  растительном  мире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 algn="just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2916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4c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d7d2b"/>
                </a:solidFill>
                <a:latin typeface="Times New Roman"/>
                <a:ea typeface="Times New Roman"/>
              </a:rPr>
              <a:t>НЕНАСЫЩЕННЫЙ  ЖИР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33160" y="2133360"/>
            <a:ext cx="8381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 H   H    H   H   H    H   H   H   O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I     I     I     I     I     I    I    II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- C - C - C = C - C - C = C - C - C - C - OH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    I                 I                I    I                 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   H                H               H   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18T15:35:14Z</dcterms:created>
  <dc:creator>Our Home</dc:creator>
  <dc:description/>
  <dc:language>en-US</dc:language>
  <cp:lastModifiedBy>Черевичная Вера Петровна</cp:lastModifiedBy>
  <dcterms:modified xsi:type="dcterms:W3CDTF">2007-05-15T19:01:04Z</dcterms:modified>
  <cp:revision>19</cp:revision>
  <dc:subject/>
  <dc:title>ЖИРЫ</dc:title>
</cp:coreProperties>
</file>